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EA0-9998-4002-BA78-E481F15C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6A5-1284-4AA4-B442-4ABFADAD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EB7-B9D9-42D9-B606-9F8693C6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61C-EB8E-4D7D-A3DB-5C302D92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F1E-449A-45DA-A656-8DFC7C73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BCE-6B81-4F7F-9333-A3481C08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6C0-401B-44BD-B498-B02BDF6D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385-25CC-4147-BA59-DE5FD046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93D-4635-4D23-B554-554E7C17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F9D-6CB7-4E0C-9AE2-173D2CEE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BE7-3966-4DBD-9C23-5D8893FB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BAA-1DBB-4138-9D84-2F427B43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B631-4152-4EB5-97AF-21102F82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- An Empire and a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from Approx. 476-1453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astern Roman Empire (Byzant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bic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" y="1752480"/>
            <a:ext cx="9140760" cy="4578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2480" y="7621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rinking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2895480"/>
            <a:ext cx="11430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48160" y="1066680"/>
            <a:ext cx="9903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380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zantine Empire in 1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2155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4618080"/>
            <a:ext cx="2038320" cy="22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086600" y="4815000"/>
            <a:ext cx="2057400" cy="20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781680" y="0"/>
            <a:ext cx="2362320" cy="1766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43200" y="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Religion forms i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5335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990720"/>
            <a:ext cx="4190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nded by Mohammed in the Early 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in what is now Saudi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89480" y="3846600"/>
            <a:ext cx="253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133720"/>
            <a:ext cx="50292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theistic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e God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ra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y Book for Islamic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illar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ectations of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rtwork may include Peopl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CON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a later spreads to Christianity, iconoc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read Quick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 E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h Af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sites includ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ed Back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les Mart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advancing further north into Europ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32 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le of Tours i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 the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rgest Religion in the World, approx. 1 Billion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733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aba in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1484280"/>
            <a:ext cx="8686800" cy="5373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05120" y="3808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mpire Expands while another one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05280" y="1523880"/>
            <a:ext cx="5238720" cy="5334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228600"/>
            <a:ext cx="32767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read of Isl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ped i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had spread throughout the Mediterranean and conquered most of Sp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Islam moved north into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le of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urs is a city in France)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32 AD, Charles Martel of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eated the Islamic Warriors thereby pushing Islam south of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5880" y="4888080"/>
            <a:ext cx="3048120" cy="1969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16880" y="0"/>
            <a:ext cx="1527120" cy="2057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441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4343400"/>
            <a:ext cx="1596960" cy="2514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14600" y="0"/>
            <a:ext cx="5105520" cy="1554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Golden 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den Age of learning where civilization, religious and ethnic tolerance, interfaith harmony, discovery and free debate were the n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raries, colleges, public baths were established and literature, poetry and architecture flouri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828800"/>
            <a:ext cx="8915400" cy="2288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dob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10th century, Cordoba, the capital of Umayyad Spain, was unrivalled in both East and the West for its wealth and civilisation. One author wrote about Cordob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were half a million inhabitants, living in 113,000 houses. There w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0 mosques and 300 public baths sp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out the city and 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one suburbs. The streets were paved and lit... There were bookshop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ore than seventy libraries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4343400"/>
            <a:ext cx="4191120" cy="160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lim scholars helped bring Greek philosophy, which the Muslims had previously been the main custodians, to Western Eur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4419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doba, Mo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2011320" cy="1271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306440" cy="1979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62320" y="3352680"/>
            <a:ext cx="6781680" cy="3277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use of zero and Arabic numbers became part of Mathematics in the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labe was used to guide shi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ilosophy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imonides a Jewish Philosop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ne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vicenna in Spain wrote the authoritative encyclopedia on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azees in Baghdad was treating smallpox almost 1000 years before Western Europe developed an inno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eratur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mar Khayyam wrote poetry that is still read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590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monides- Jewish Philos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28600"/>
            <a:ext cx="35812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Western Europe was still coming out of the dark ag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ic Spain was having a Golden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lamic Spain and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aghda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in Iraq, Flourished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ic, Jewish and Christian populations lived and worke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4572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ern Europe refused to read pre-Christian and non-Christian writings. Islam maintained the knowledge of Greece and Rome. Socrates, Euclid, Homer and other  were lost to the West but still alive in Islamic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648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Hambra in Gr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1879560" cy="2590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124080" y="5029200"/>
            <a:ext cx="28958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086600" y="0"/>
            <a:ext cx="851040" cy="1523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 flipV="1">
            <a:off x="2057040" y="6858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76720" y="685800"/>
            <a:ext cx="16286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ussi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1600200"/>
            <a:ext cx="4267440" cy="33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k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tled in what is now the City of Kiev (Capital of Ukraine). Previous people in the area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v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lend in with the Viking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ings had traveled as far south as Constantinople and were used as guards in the Eastern Emperors pa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lavic areas had become Christian in the Eastern (Byzantine) or Orthodox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1547640"/>
            <a:ext cx="2743200" cy="5854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9 Russian Ruler, Vladim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ided to convert the populations to one religion, according to fable he f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oman Catholicism was too dr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udaism had too many eat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slam didn’t allow dr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tern Orthod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d the beautiful and splend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gia 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re Likely, Vladimir received was enticed by the Emperor in Constantinople to choose his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0"/>
            <a:ext cx="15238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905120"/>
            <a:ext cx="1523880" cy="215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cow, the Capital of Russia is sometimes known as th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 Islamic-Christian Confli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rusades 1096-1270 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conquered Christian areas, including the Holy Lands,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rusa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s concerned about the destruction of Christian sites such as the Church of the Holy Sepul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hurch established by Helena, mother of Constantine, at the site of Jesus’ crucifix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ntury the Eastern and Western Christian Churches had spl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two completely separate relig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man Catholic Pope, Urban II in 1096 began a “Crusade”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 Regain the Holy Lands and secure the Christian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- Reunify the Eastern and Western Christian Chu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Crusades in Total will be fought over 200 years. In many affected areas, Anger and Resentment about the toll of the Crusades still li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838080"/>
            <a:ext cx="4572000" cy="527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e First Crusade: 1096-10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e Urban. 12,000 commoners togethe w/nobles intent on liberating Jerusalem. The European nobility marched on Jerusa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Second Crusade: 1147-1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iginally preached by Bernard of Clairvaux. Only a few Greek islands were ta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e Third Crusade: 1189-1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Led by Frederick Barbarosa, Richard I of England and Philip II of France. Resulted in a truce which gave Christians access to Jerusalem and the Holy Plac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e Fourth Crusade: 1202-12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stead of marching on Jerusalem, this crusade was diverted to Constantinople. They ransacked Constantinople and took it over for almost 7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jor Crusades i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838080"/>
            <a:ext cx="45720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Fifth Crusade: 1218-1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 attack on Egyp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e Sixth Crusade: 1228-12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d by Frederick II, Holy Roman Emperor. He negotiated a treaty which led to Christian control of several important holy sites, including Jerusalem. </a:t>
            </a:r>
            <a:r>
              <a:rPr b="0" i="1" lang="en-US" sz="2000" spc="-1" strike="noStrike">
                <a:solidFill>
                  <a:srgbClr val="008000"/>
                </a:solidFill>
                <a:latin typeface="Arial Narrow"/>
              </a:rPr>
              <a:t>Jerusalem was retaken by Muslim mercenaries in 1244.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Seventh Crusade: 1248-12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d by King Louis IX of France (Saint Louis). He captured the Egyptian city of Damietta, but was himself taken captive in the battle for Cairo. He was eventually ransom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Eighth Crusade: 12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 unsuccessful attack on Tu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52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imetable of the Crus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1100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ern Europe, influenced by Byzantine and Islamic areas starts to once again accept Greek and Roma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was getting pushed back towards the Near East, Islamic Spain was beginning its dec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 was being pushed out of Eastern Europe, Constantinople was about to be ransa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nd of the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 was in a Rena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had taken over all of 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ity was removing any and all Jews and Islamic people from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was expanding its b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line – Eastern Roman Empire (Byzantine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s Islam, Spai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3526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146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e F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0" y="2995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9520" y="3452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90720"/>
            <a:ext cx="2472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Justinian Reigns 527-5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gains much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mpire, Builds Ha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ofia, creates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Justinia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8840" y="2995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9080" y="3505320"/>
            <a:ext cx="200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oh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Establis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Islamic Religion wi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preads through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862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828800"/>
            <a:ext cx="21333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cons bann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 Eastern Christian Ch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ntil 8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6760" y="3352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77240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34400" y="3733920"/>
            <a:ext cx="1729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hristians def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uslim Armi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Fr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(Battle of Tou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0244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381880" y="3352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4648320"/>
            <a:ext cx="221004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rdoba, S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And Bagh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Intellectual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ultural Cap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Of Euro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3960" y="30481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7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8672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64160" y="3581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3120" y="1371600"/>
            <a:ext cx="19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zar Vlad, Russ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oo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astern Orthod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ristianity as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ussian Reli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3276720"/>
            <a:ext cx="5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7320" y="274320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ussia “found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y Vik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1880" y="3352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line – Eastern Roman Empire (Byzantine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s Islam, Spai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612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4952880"/>
            <a:ext cx="472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Ottoman Turks takeover more and more of Asia Minor until in 1453 they finally take the city of Constantinople, rename it Istanbul and make Hagia Sofia a Mo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6720" y="3300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" y="4038480"/>
            <a:ext cx="1681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an Cathol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Orthod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rch Sp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0" y="3581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1440" y="1905120"/>
            <a:ext cx="15249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Crus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ristians t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Jerusa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7640" y="32767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06400" y="1752480"/>
            <a:ext cx="18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usade 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rans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antin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 Emp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midst of dec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3760" y="2895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1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9160" y="3562200"/>
            <a:ext cx="13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eginning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he dec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Of Isla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590920"/>
            <a:ext cx="127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97180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4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532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1905120"/>
            <a:ext cx="22096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lims driven out of Spain, all of Spain will become by law, Christ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3581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6920" y="2971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5029200"/>
            <a:ext cx="44956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58904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152280"/>
            <a:ext cx="5562360" cy="15721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st powerful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d 527-565- Easter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438280"/>
            <a:ext cx="5334120" cy="396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t Hagia Sofia- Largest Building in Europe from the 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ntury to the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inian Code, revised and updated the Roman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gained many Roman lands lost to the Barbar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Beautified and secured Constantin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Like other Emperors, he was both the Emperor and the Head of th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914040"/>
            <a:ext cx="2590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gia So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072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3051000"/>
            <a:ext cx="2855880" cy="3807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962520" y="3433680"/>
            <a:ext cx="45655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The Eastern Roman (Byzantine) Empire and the</a:t>
            </a:r>
            <a:br>
              <a:rPr sz="2800"/>
            </a:b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 Eastern Orthodox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inople –Capitol, until it falls in 1453 to the Ottoman Turks -&gt;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ern and Western (Rome) Churches grow apart. Arguments over who heads the church; the Emperor in Constantinople, or the Pope in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Justinian, the Eastern Empire decays, Slavic invaders and Islamic Conquests eventually erode the Empire until all is lost in 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ern Orthodox Church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 Catholic Church Sp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054 the two churches completely separate - the split continues to this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 the two churches fought about the u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Orthodox leaders claimed the icons were being treated like Gods, violating the 10 Command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con is a painting or sculpture of a person. Usually a Saint or Je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 bans I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Eastern Church in the early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ikewise banned them.  Paintings of religious figures were destroyed. In the mid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both the Eastern and Western Churches accepted Icons, and both still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centuries the two Churches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ommunic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orced out of the churc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others leader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re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violating the laws of the chu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Churches-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the Spli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s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man Catholic Church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, mass was sai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arc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astern Orthodox Church.  Orthod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ries each have their own Patriarch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arc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d services in their countries native langu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archs are often close with the  a country’s political l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tern Orthodox priests do not have to be celibate and can ma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91320" y="0"/>
            <a:ext cx="1552680" cy="290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05120" y="13716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an Cathol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914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 Ortho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6520" y="533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astern Roman Empire in 565 AD After Justinian’s Vi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0:24:32Z</dcterms:created>
  <dc:creator>Darien Public Schools</dc:creator>
  <dc:description/>
  <dc:language>en-US</dc:language>
  <cp:lastModifiedBy>Darien Public Schools</cp:lastModifiedBy>
  <dcterms:modified xsi:type="dcterms:W3CDTF">2008-11-17T12:29:22Z</dcterms:modified>
  <cp:revision>17</cp:revision>
  <dc:subject/>
  <dc:title>The East- An Empire and a Religion</dc:title>
</cp:coreProperties>
</file>